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CF1-B2A8-400B-A3DA-BDF99AB1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95C-B8E1-4E7B-88B9-9C1B2563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603-C9C3-4CD4-97B0-07405B3A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37D-57A5-456F-9BFB-BD0E171F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52F-1E87-4854-ACE6-C87F1482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E26-4216-4184-90A6-AAF102DE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C0E-D730-4732-94A7-86847BC1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E07-2B7C-4B8D-843F-6EA541F5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934-09FD-4E54-9E44-3C7FAB95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09DB-CA17-40B4-989D-2B516A6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637-297A-4943-88CC-04347882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6F6-C29C-4A61-8A3F-6A2A3573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4DF4-1C05-4E2E-A041-142ECECA6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52560" y="1000080"/>
            <a:ext cx="7238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2057400" cy="3119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108840" y="228600"/>
            <a:ext cx="303516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0" y="228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52560" y="1000080"/>
            <a:ext cx="7238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52560" y="1000080"/>
            <a:ext cx="72388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0:39:07Z</dcterms:created>
  <dc:creator>ECU</dc:creator>
  <dc:description/>
  <dc:language>en-US</dc:language>
  <cp:lastModifiedBy>gibsonbrownr</cp:lastModifiedBy>
  <dcterms:modified xsi:type="dcterms:W3CDTF">2010-08-18T01:59:46Z</dcterms:modified>
  <cp:revision>2</cp:revision>
  <dc:subject/>
  <dc:title>Slide 1</dc:title>
</cp:coreProperties>
</file>